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65870-2C3A-4064-B7C7-E2A33EB0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E3DF95-C00D-465D-89C9-93888E32A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4BD79-A9D7-4F75-81D8-E550A0AA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D64AB7-FC36-40EF-B348-E912D144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C45CAC-4184-4839-8831-FA5C164B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0382C0-97A3-42E4-9E5A-3182D51C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81FC93-F1D8-47D3-A990-5BF7B062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CEB043-DCC8-4CEE-AE67-FA8CEDD2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C7D048-8955-4F5D-B0C2-A460FC88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446BC1-907E-4CB3-8C96-A5753AC9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0C4E25-6749-43F0-A24E-E3F6B9AB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9E9007-0775-4B17-9741-0B2E8433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A22-8876-4147-963E-FB487560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EB1-9DE3-42D6-B666-21A91767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A3E-1C5B-4B88-A415-B7F774A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89D-08DB-4C20-8035-67196792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A20-7CC2-40CA-B438-646C9B0C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96-19EC-4B37-83CB-5AF95B1D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33D-5265-4B16-B156-CD5AB914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1FD-16BE-4E56-8F73-693A1895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37-BC5B-418F-8AFE-32D0C5B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979-CB86-4A2E-814F-4D587D0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172-B688-48DE-8AEC-D785CE8A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37E-41A1-4289-9DC1-3CEE03C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DC7-78E8-4E65-A9DD-F6C744E9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01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pyright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8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uide to Understanding the Basics about Copy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iving Credi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at you understand a copyright owner’s rights by citing sources you use for your school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rmat your teacher provides – in most cases this includes the name of the creator, the year it was created, and where you found th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t: If you give permi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oem you wrote to be publish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chool Web site, should 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be cited as the cre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YES! Your original work is valuable and should be recog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copymachine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20240" y="125280"/>
            <a:ext cx="785520" cy="80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952560" y="392436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xamples of work you have created in class that you can show the copyright symbol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copyright symbol on several items in the classroom and discuss what this means to each ow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What U Have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4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16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+ right  = Copyr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et of legal protections (or rights) provided by the government to the creators of Intellectual prop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YOU create that is fixed                                                                        in a tangible form (something that                                   can be can be seen, reproduced                                           or communicated for more than a                                temporary period of time) is                                             automatically protected by copyrigh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protected"/>
          <p:cNvPicPr/>
          <p:nvPr/>
        </p:nvPicPr>
        <p:blipFill>
          <a:blip r:embed="rId2"/>
          <a:stretch/>
        </p:blipFill>
        <p:spPr>
          <a:xfrm>
            <a:off x="6377040" y="3006720"/>
            <a:ext cx="22827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4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+ right  = Copy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et of legal protections (or rights) provided by the government to the creators of Intellectual prop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rights protect your creations                                          from being copied, distributed,                                         performed, or changed    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your per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ing your work with the copyright symbol        is very important! It helps others know it is            yours and that it is prot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protected"/>
          <p:cNvPicPr/>
          <p:nvPr/>
        </p:nvPicPr>
        <p:blipFill>
          <a:blip r:embed="rId2"/>
          <a:stretch/>
        </p:blipFill>
        <p:spPr>
          <a:xfrm>
            <a:off x="6377040" y="2622600"/>
            <a:ext cx="228276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pyright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pyright symbol is a C surrounded by a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type CTRL + ALT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omputer"/>
          <p:cNvPicPr/>
          <p:nvPr/>
        </p:nvPicPr>
        <p:blipFill>
          <a:blip r:embed="rId2"/>
          <a:stretch/>
        </p:blipFill>
        <p:spPr>
          <a:xfrm>
            <a:off x="3139920" y="3274920"/>
            <a:ext cx="2853000" cy="288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995640" y="2820960"/>
            <a:ext cx="138276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 baseline="-25000">
                <a:solidFill>
                  <a:srgbClr val="000000"/>
                </a:solidFill>
                <a:latin typeface="Arial"/>
              </a:rPr>
              <a:t>©</a:t>
            </a:r>
            <a:endParaRPr b="1" lang="en-US" sz="16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" name="Picture 9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w it’s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write, draw, or create something – show that it belongs to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le “C”, Year and 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470760" y="354816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8, Ima Writ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612880" y="3011400"/>
            <a:ext cx="103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endParaRPr b="1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" name="Picture 14" descr="COPYBOO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881520" y="4280040"/>
            <a:ext cx="1352520" cy="1990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opyrightwhite"/>
          <p:cNvPicPr/>
          <p:nvPr/>
        </p:nvPicPr>
        <p:blipFill>
          <a:blip r:embed="rId3"/>
          <a:stretch/>
        </p:blipFill>
        <p:spPr>
          <a:xfrm>
            <a:off x="8143920" y="165240"/>
            <a:ext cx="806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ublic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tems are not protected by copyright. Their copyright protection has expired, they are government works, or they were never protected to begin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at you have learned to give a few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brain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067600" y="203040"/>
            <a:ext cx="962280" cy="752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publicdomain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70040" y="3697200"/>
            <a:ext cx="31874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6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r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lso some exceptions to copyright laws – called The Fair Use Doctrine. Fair use allows one to use materials for education and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teacher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105760" y="165240"/>
            <a:ext cx="920880" cy="78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ariuse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85960" y="3160800"/>
            <a:ext cx="36860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 Criteria of Fair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and reason for use (will you make money off it or is it for nonprofit educational reason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the work (is it fact based or highly creativ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you will use (is it a large portion or just a small sectio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r use will affect value (are you taking away someone’s ability to make mone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teacher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105760" y="165240"/>
            <a:ext cx="92088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giaris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iarism is the use of someone else’s work as your own. For example, this includes another’s ideas you have paraphrased, direct quotes, pictures, and pho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use someone else’s work, make sure you get permission or give credit to the cre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credit is called CI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. Cite the source for anyt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someone else, inclu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s, songs, artwork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copymachine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20240" y="125280"/>
            <a:ext cx="785520" cy="80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lagiarism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961920" y="4119480"/>
            <a:ext cx="22273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42:31Z</dcterms:created>
  <dc:creator>klamon</dc:creator>
  <dc:description/>
  <dc:language>en-US</dc:language>
  <cp:lastModifiedBy>cwalpole</cp:lastModifiedBy>
  <dcterms:modified xsi:type="dcterms:W3CDTF">2008-06-18T17:41:59Z</dcterms:modified>
  <cp:revision>36</cp:revision>
  <dc:subject/>
  <dc:title>Copyright Can Do</dc:title>
</cp:coreProperties>
</file>